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1DB3-0DD2-46D6-ACC6-283B549552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сложная, поэтому снабжена дополнительными выделяющими блоками с анимацией. Управляется по кл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15B-45DE-4DD5-9914-9900CDA7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2ED-D555-4BC2-9A31-EF80CD35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90C-B8CE-4307-B864-8D5AD77D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15E-EEDE-4AB3-AFCA-EB2B588F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329-C1D9-408C-9C31-E0ADD36A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91A-14A8-40DC-AF60-CF63ED6A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AFA-829E-4BBD-A4A0-A747F949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660-32E7-4E42-BBF2-054A4461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DEC-A1EB-4A45-8DCE-4CD83A2A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0C0-ADD5-4129-B427-BF6E33B7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6CF-C4B9-46C1-AE51-7DFD1575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419-0D90-44FD-916D-9A54C1C0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4CFF-E805-469A-AB38-BC99F89C97C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ка высказываний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133360"/>
            <a:ext cx="73040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Алгоритм построения </a:t>
            </a:r>
            <a:br>
              <a:rPr sz="3800"/>
            </a:b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таблиц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аблицы истинност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ение логических выражений принято оформлять в виде таблиц, в которых по действиям показано, какие значения принимает логическое выражение при всех возможных наборах его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ля составления таблицы истинности необходимо: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рок (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переменны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олбцов (количество переменных + количество логических операц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роить таблицу, указывая названия столбцов и возможные наборы значений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олнить таблицу истинности по столбц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менных: две (А и В), т.е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заголовком: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столбц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переменные + 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ций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того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ядок операц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  5     2      4     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2565360"/>
          <a:ext cx="8497800" cy="2278080"/>
        </p:xfrm>
        <a:graphic>
          <a:graphicData uri="http://schemas.openxmlformats.org/drawingml/2006/table">
            <a:tbl>
              <a:tblPr/>
              <a:tblGrid>
                <a:gridCol w="792000"/>
                <a:gridCol w="865080"/>
                <a:gridCol w="935280"/>
                <a:gridCol w="792000"/>
                <a:gridCol w="792360"/>
                <a:gridCol w="1439640"/>
                <a:gridCol w="28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19744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61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7760" y="1844640"/>
            <a:ext cx="3662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¬A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¬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3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416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948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2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еременных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и 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т.е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8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 заголовком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олбцов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переменные + 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ции (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того 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орядок операци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      2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16000" y="2276640"/>
          <a:ext cx="6626160" cy="3713040"/>
        </p:xfrm>
        <a:graphic>
          <a:graphicData uri="http://schemas.openxmlformats.org/drawingml/2006/table">
            <a:tbl>
              <a:tblPr/>
              <a:tblGrid>
                <a:gridCol w="576360"/>
                <a:gridCol w="649080"/>
                <a:gridCol w="717840"/>
                <a:gridCol w="938160"/>
                <a:gridCol w="1439640"/>
                <a:gridCol w="230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2603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11840" y="1628640"/>
            <a:ext cx="26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¬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672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5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944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21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68596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685960"/>
            <a:ext cx="79236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307980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3079800"/>
            <a:ext cx="79236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3467160"/>
            <a:ext cx="50328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467160"/>
            <a:ext cx="79236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386064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860640"/>
            <a:ext cx="79236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429264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292640"/>
            <a:ext cx="79236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472428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472428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51483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514836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55753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557532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3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268920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308304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470400"/>
            <a:ext cx="503280" cy="3744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386388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29588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7275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5151600"/>
            <a:ext cx="503280" cy="3981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5785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76640" y="2679840"/>
            <a:ext cx="126360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76640" y="3073320"/>
            <a:ext cx="126360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6640" y="3460680"/>
            <a:ext cx="126360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76640" y="3854520"/>
            <a:ext cx="1263600" cy="4046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76640" y="4286160"/>
            <a:ext cx="1263600" cy="4082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76640" y="471816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6640" y="514188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556884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10Z</dcterms:modified>
  <cp:revision>120</cp:revision>
  <dc:subject/>
  <dc:title>Слайд 1</dc:title>
</cp:coreProperties>
</file>